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315044"/>
        <c:axId val="2914864"/>
      </c:barChart>
      <c:catAx>
        <c:axId val="703150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14864"/>
        <c:crosses val="autoZero"/>
        <c:auto val="1"/>
        <c:lblAlgn val="ctr"/>
        <c:lblOffset val="100"/>
        <c:noMultiLvlLbl val="0"/>
      </c:catAx>
      <c:valAx>
        <c:axId val="29148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3150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44AE-B65D-4A04-A0CB-E6A5299F2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8D26-50DE-416A-B1CF-5D57AD24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0CC6-7F5C-49AD-AED6-5FBBD0E3E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BADB-48CF-48FD-A396-CDCA9317D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F907-60BF-414D-B896-E8F5A4C2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DCEC-ED08-4039-9E63-9B8251C3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4E5C-E12A-4D41-9A08-A6B22947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B5D6-FF95-4A2D-A6D9-D178F40C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C00C-BC72-4C33-A8C4-C6D4C097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D366-0850-4148-99DD-19021FCF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D8E7-C097-485E-99E0-95FD8C72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B20E-D9BE-456B-B203-D74625C9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943A7-8256-4355-9EE3-C9D85E6FD8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